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F48-6A73-4A10-942B-B4505602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8BA-7DF2-4910-A85B-B8365E6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C60-0C2A-46C9-A170-D06D0ABE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C98-0B17-4BF9-9DA4-2E112E18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30F-C916-4480-A852-04D1D09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38C-FD35-410A-BB2C-42877FA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456-E7F4-4428-B939-2F3F402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EBB-3E13-48B3-B9D9-A44F1C6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19A-1C6A-404E-ADAF-FFA4EF85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821-CE68-4D0F-89D1-5219D86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E24-1231-4C47-809A-DE306D5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71A-CFCE-47C1-8F8D-CA490C0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1D20-EAB1-4484-90B5-0FB0B99B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spiration.com/vlearni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ts.intute.ac.uk/detective/getonthecas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ardofstudies.nsw.edu.au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256360" cy="49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700280"/>
            <a:ext cx="6769080" cy="42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have been given an open-ended research assign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will need to dec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hat the topic will be and develop your own foc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you will find th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you will present this inform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r research assignment will sh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vidence of detailed and independen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bility to engage with a range of ideas and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bility to produce a presentation for an appropriat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d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4365720"/>
            <a:ext cx="809640" cy="76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6237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BB8-8EED-41CD-B7C1-87F7304537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628640"/>
            <a:ext cx="6408720" cy="12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yourself these questions to help identify and clarify your research top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nterests m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social issues affect me, my family or my communit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nformation is available around this issu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ccessible is the information I will need to gath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ing a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cons_01" descr=""/>
          <p:cNvPicPr/>
          <p:nvPr/>
        </p:nvPicPr>
        <p:blipFill>
          <a:blip r:embed=""/>
          <a:stretch/>
        </p:blipFill>
        <p:spPr>
          <a:xfrm>
            <a:off x="684360" y="1773360"/>
            <a:ext cx="863280" cy="74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314172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3716280"/>
            <a:ext cx="6443640" cy="23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lk with your teacher and classmates about your topi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ose your topic as questions to be answered or a problem to be solv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ke a list of key words and phrases about your to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 a chart or a mind mapping software to outline your id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 help you generate ideas for the topic you can use </a:t>
            </a:r>
            <a:r>
              <a:rPr b="0" i="1" lang="en-AU" sz="1400" spc="-1" strike="noStrike">
                <a:solidFill>
                  <a:srgbClr val="000000"/>
                </a:solidFill>
                <a:latin typeface="Arial"/>
              </a:rPr>
              <a:t>Inspiratio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, a mind mapping program. For more information go to the Inspiration website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ownload a free t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spiration.com/v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_Mindmap" descr=""/>
          <p:cNvPicPr/>
          <p:nvPr/>
        </p:nvPicPr>
        <p:blipFill>
          <a:blip r:embed=""/>
          <a:stretch/>
        </p:blipFill>
        <p:spPr>
          <a:xfrm>
            <a:off x="539640" y="5803920"/>
            <a:ext cx="1409760" cy="36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8665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17D-CA7B-44D8-946D-3F4E4DF59C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628640"/>
            <a:ext cx="7417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research assignment reports facts, data, and other information on a specific topic. Your assignment requires information from many different sour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ncyclopedia to get an overview of the topic and refine your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catalogue to search for materials in books, magazine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material in pamphlets, brochures and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ms, documentaries and interviews with exp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ternet and CD RO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6119640" cy="16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internet has no standard system of quality control so it's important to be careful about which information you use and not to trust everything you re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re information on using the internet for research go to: </a:t>
            </a: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vts.intute.ac.uk/detective/getonthecas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4322880"/>
            <a:ext cx="80964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0000" y="2781360"/>
            <a:ext cx="838440" cy="102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E4C-69B2-48A7-B997-871B46091C0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717560"/>
            <a:ext cx="78487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need to decide on the most appropriate way to present your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is could 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 e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eature 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ultimedia presentation like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ocumentary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hoto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764240"/>
            <a:ext cx="6408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the most appropriate way to present your research. For example, a visual presentation may be more powerful and interesting when showing the effects of climate change or local pollution iss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4754520"/>
            <a:ext cx="80964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9EB-9C7E-4234-A4E8-D4887A7D8B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717560"/>
            <a:ext cx="784872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esearch process requires a detailed search of the material and the development and organising of a structure for the presen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king and taking notes can help to get then information, ideas and perspectives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books, the Internet and present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Keep a list of references and sources for your bibliograp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ou must acknowledge all the sources you use. Not doing this is plagiarism and is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garded as che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4724280"/>
            <a:ext cx="6624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dvice about copyright, plagiarism and ethical practices, go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 of Studies: HSC: All My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oardofstudies.nsw.edu.a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86688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11280" y="4827600"/>
            <a:ext cx="80964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775-3EF8-44E3-9D42-439EE3BF465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5256000" cy="49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demecum"/>
              </a:rPr>
              <a:t>Research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773360"/>
            <a:ext cx="6912000" cy="42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assignment check li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topic and focus clear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ssue or concept well develop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ersonal point of view clearly expres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opening engaging and informati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resentation clear and logic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the work have different points of view and perspectiv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re evidence of independent research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you used a variety of sourc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your work have a bibliograp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presentation appropriate to the top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052640"/>
            <a:ext cx="7848720" cy="368280"/>
          </a:xfrm>
          <a:prstGeom prst="rect">
            <a:avLst/>
          </a:prstGeom>
          <a:gradFill rotWithShape="0">
            <a:gsLst>
              <a:gs pos="0">
                <a:srgbClr val="fcf78e"/>
              </a:gs>
              <a:gs pos="100000">
                <a:srgbClr val="747141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2373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824120"/>
            <a:ext cx="742680" cy="102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10D-0A8B-4E6C-B2C6-6645C78A155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search assign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3:55:33Z</dcterms:created>
  <dc:creator>Authorised DET User</dc:creator>
  <dc:description/>
  <dc:language>en-US</dc:language>
  <cp:lastModifiedBy>Authorised DET User</cp:lastModifiedBy>
  <dcterms:modified xsi:type="dcterms:W3CDTF">2008-02-22T02:29:30Z</dcterms:modified>
  <cp:revision>33</cp:revision>
  <dc:subject/>
  <dc:title>Research assignment</dc:title>
</cp:coreProperties>
</file>